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685-5B5F-492C-83D9-F66ACD2E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A4A-2537-4626-9150-5093324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E57-E8D0-442E-BEF2-33A424BE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5D8-351B-41D9-81CC-8E1132C3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804-A891-41AF-B736-091EADF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658-F5CF-47C8-8E1B-08CE830F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EA8-B0C0-4921-A6CF-0831D1D0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20A-A99B-4B8C-80A2-099D8B12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A98-9C0A-48EF-92AC-BBA6282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E9A-9083-4824-B25E-FC13CFA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FF2-E9CA-4B88-ACAD-1058B43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026-BF66-4B85-8563-6F7D685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322-FCE0-4D82-9675-D5481E38D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27080" y="2173320"/>
            <a:ext cx="9144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   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turizmu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 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fogyasztás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602160"/>
            <a:ext cx="9144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szolgáltatások épp oly fontosak, mint az anyagi jav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idő vásárl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fogyasztás termelő funkció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33600"/>
            <a:ext cx="9144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A fogyasztással kapcsolat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fontos megállapításo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1160" y="1311120"/>
            <a:ext cx="9144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e6420f"/>
                </a:solidFill>
                <a:latin typeface="Book Antiqua"/>
              </a:rPr>
              <a:t>A t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urista tapasztal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legfontosabb sajátossága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4664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abadidős tevéken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érbeni mozgás és bizonyos időtartamú tartózkod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Utazás a lakó- és munkahelyen kívü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odern társadalm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Célpontok kiválasztása (tv, magazin, vide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urizmus = jelek gyűjtemény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20" y="1333440"/>
            <a:ext cx="9144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A</a:t>
            </a:r>
            <a:r>
              <a:rPr b="0" lang="hu-HU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turizmus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társadalmi korláta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920" y="31575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úlzsúfoltság és tömegessé vá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ömegessé válás költsé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ishan - nemzetközi légi közlekedés tilal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920" y="47577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Beckermann kritiká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ömegturizmus hatásával a középosztály foglalkoz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rofitálás a turizmus tömegessé válásábó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3280" y="1366920"/>
            <a:ext cx="9144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e6420f"/>
                </a:solidFill>
                <a:latin typeface="Book Antiqua"/>
              </a:rPr>
              <a:t>A v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éleménykülönbsége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5000" spc="-1" strike="noStrike">
                <a:solidFill>
                  <a:srgbClr val="e6420f"/>
                </a:solidFill>
                <a:latin typeface="Book Antiqua"/>
              </a:rPr>
              <a:t>hátte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3280" y="339084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Hirsch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: A növekedés társadalmi hatásait vizsgáló tanulmá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Közgazdaságtan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: a piaci cserék általában önkénte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Kényszerű fogyasztás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: „egyre gyorsabban kell futni, hogy egy helyben maradhassun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Hirsch példája a szuburbanizációbó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3280" y="145584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500" spc="-1" strike="noStrike">
                <a:solidFill>
                  <a:srgbClr val="e6420f"/>
                </a:solidFill>
                <a:latin typeface="Book Antiqua"/>
              </a:rPr>
              <a:t>Hirsh elmélet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3280" y="231444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fogyasztás jelentős része a szuburbanizációhoz hasonlí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űkösen rendelkezésre álló jav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Direkt társadalmi szűkös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em szándékolt társadalmi szűkös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3280" y="434988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500" spc="-1" strike="noStrike">
                <a:solidFill>
                  <a:srgbClr val="e6420f"/>
                </a:solidFill>
                <a:latin typeface="Book Antiqua"/>
              </a:rPr>
              <a:t>Szűkössé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3280" y="51084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Fizikai teherbíróképes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erceptuális teherbíróképes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7840" y="1689120"/>
            <a:ext cx="914400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900" spc="-1" strike="noStrike">
                <a:solidFill>
                  <a:srgbClr val="e6420f"/>
                </a:solidFill>
                <a:latin typeface="Book Antiqua"/>
              </a:rPr>
              <a:t>Mishan                        </a:t>
            </a:r>
            <a:r>
              <a:rPr b="1" i="1" lang="hu-HU" sz="49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49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49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4900" spc="-1" strike="noStrike">
                <a:solidFill>
                  <a:srgbClr val="e6420f"/>
                </a:solidFill>
                <a:latin typeface="Book Antiqua"/>
              </a:rPr>
              <a:t>	</a:t>
            </a:r>
            <a:r>
              <a:rPr b="1" i="1" lang="hu-HU" sz="4900" spc="-1" strike="noStrike">
                <a:solidFill>
                  <a:srgbClr val="e6420f"/>
                </a:solidFill>
                <a:latin typeface="Book Antiqua"/>
              </a:rPr>
              <a:t>turisztikai tapasztal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000" y="3170160"/>
            <a:ext cx="914400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Romantikus” és „Együttes” turisztikai tapasztalat</a:t>
            </a:r>
            <a:r>
              <a:rPr b="1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élda: Wiltshire-i kúra és kert, nagyváro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uristák nem csak zsúfoltságot okoznak, hanem szolgáltatásokat hoznak lé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élda: Új- Zé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1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A turizmus fogy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00" y="1300320"/>
            <a:ext cx="91440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900" spc="-1" strike="noStrike">
                <a:solidFill>
                  <a:srgbClr val="e6420f"/>
                </a:solidFill>
                <a:latin typeface="Book Antiqua"/>
              </a:rPr>
              <a:t>Zárógondolatok és összegzé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60" y="200340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A „romantikus” turisztikai tapasztalat kiindulása, elterjedése és negatív hatá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A turisztikai tapasztalat meghatározottsá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áblák jelentősé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urisztikai csomópontok kialakulá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Helyek általánosabb meghatározása: ipari és örökség turizm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680" y="4870440"/>
            <a:ext cx="9123480" cy="1677960"/>
          </a:xfrm>
          <a:prstGeom prst="rect">
            <a:avLst/>
          </a:prstGeom>
          <a:solidFill>
            <a:srgbClr val="99cc00">
              <a:alpha val="85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→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A turizmus vizuális je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→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A turisztikai tapasztalat két formája: romantikus és együt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→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Autentikussá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28:25Z</dcterms:created>
  <dc:creator>Mayer Péter</dc:creator>
  <dc:description/>
  <dc:language>en-US</dc:language>
  <cp:lastModifiedBy>Mayer Péter</cp:lastModifiedBy>
  <dcterms:modified xsi:type="dcterms:W3CDTF">2007-04-27T11:06:25Z</dcterms:modified>
  <cp:revision>316</cp:revision>
  <dc:subject/>
  <dc:title>1. dia</dc:title>
</cp:coreProperties>
</file>